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876-07F2-4026-B8E8-56E3DABC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3CC-17F6-4A1C-9970-6680280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2E1-2DE0-4DA6-B1C4-3BD5B567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09B-27D1-49AA-824D-95C63AB5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109-ABCF-49C1-9AEA-691B9BB1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88E7-1B4B-49D8-AE77-44D9473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55F-1635-4F32-AD66-F7412F1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054-BB2E-4C6A-9A02-9D72868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5FC7-1BE4-407F-848A-7769D5C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B424-2A87-48E4-B800-5BE79A1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F1E-58B0-44A1-91F7-7B4BBC8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1DF-AC5F-49EB-A0CC-D87E6EAD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32A-E926-4AAC-BE47-472AA4E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0C5C-F8F8-43E2-B4C9-05C17FC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45C4-992A-48A4-AAE3-6EBD47E4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7DED-589E-4FD0-B344-CF5357B7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399-0A78-4A3A-9C81-148BCEA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168-BCFB-47E1-8231-A3832F0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686-AFF2-4082-A710-F25BEB2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355-BFAE-4816-808F-41D41FA4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52C-5FBD-4069-A2DE-43975BA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4BB-95DF-4799-AC33-03C3C96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17D-D8FD-47DD-9465-35B8ACC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5EE-B616-4DF5-9D7C-2BB81FD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F8AE-EA9B-401C-9C0A-5520591301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43F-840A-4FD6-B719-E801847E87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&lt;&lt;Breakout Name / Session #&gt;&gt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7-15T19:30:47Z</dcterms:modified>
  <cp:revision>126</cp:revision>
  <dc:subject/>
  <dc:title>Slide 1</dc:title>
</cp:coreProperties>
</file>